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ick.wav" ContentType="audio/x-wav"/>
  <Override PartName="/ppt/media/image4.jpeg" ContentType="image/jpeg"/>
  <Override PartName="/ppt/media/image3.png" ContentType="image/png"/>
  <Override PartName="/ppt/media/image2.jpeg" ContentType="image/jpeg"/>
  <Override PartName="/ppt/media/push.wav" ContentType="audio/x-wav"/>
  <Override PartName="/ppt/media/image8.png" ContentType="image/png"/>
  <Override PartName="/ppt/media/image7.jpeg" ContentType="image/jpeg"/>
  <Override PartName="/ppt/media/camera.wav" ContentType="audio/x-wav"/>
  <Override PartName="/ppt/media/explode.wav" ContentType="audio/x-wav"/>
  <Override PartName="/ppt/media/wind.wav" ContentType="audio/x-wav"/>
  <Override PartName="/ppt/media/bomb.wav" ContentType="audio/x-wav"/>
  <Override PartName="/ppt/media/image1.jpeg" ContentType="image/jpeg"/>
  <Override PartName="/ppt/media/drumroll.wav" ContentType="audio/x-wav"/>
  <Override PartName="/ppt/media/image6.jpeg" ContentType="image/jpeg"/>
  <Override PartName="/ppt/media/applause.wav" ContentType="audio/x-wav"/>
  <Override PartName="/ppt/media/breeze.wav" ContentType="audio/x-wav"/>
  <Override PartName="/ppt/media/image5.png" ContentType="image/png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D6059-45A4-47E7-8819-305C4081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8C97F-5FE4-4A0D-AA9F-A88973F3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09CAA-D9BC-484A-A070-F5872217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436AB-EBD3-4B92-A70D-F9249E23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5D92-D4B4-4571-8315-5F03F521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E03F-1855-454F-B6D3-E9B06762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D970-71BA-4735-A50B-03B4D0F3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3F79-6E91-404B-BDC1-10AB3569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F3F2-154E-4EB3-89B7-751190F4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D85A-E4DD-449F-954D-DAE342F3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BD36-006D-4B0E-95F7-BFBE55F9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221EB-1A56-4B5D-9668-DA0C67C1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01F9-8351-45BD-B677-4A6700CE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4A8C-475F-4BAD-8A6D-37A65E10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E982-A7E1-4623-8497-EA339885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BC3C-F99B-4E5F-8BB7-0626A48D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9279-A49E-4A70-910B-57273764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FEAD0-361F-4A57-A681-EFF136C3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055D1-9FBA-4A09-9039-93A75F51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EE0B0-E484-48DD-B3C6-9C036639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E24DE-7B5D-421A-817E-5140B404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9DBDA-C0B5-47CC-A6C1-67A671D3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98920-4BF9-49F6-9776-2BECFB62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4AC17-EC78-4C58-902F-C8CF4291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0386-CD84-4A58-A1C6-A7681AEF1E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2EF7-B777-402B-9CB2-B5D07734C5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omic"/>
              </a:rPr>
              <a:t>Comparison Of  Cars</a:t>
            </a:r>
            <a:endParaRPr b="1" lang="en-US" sz="9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wheel spokes="8"/>
    <p:sndAc>
      <p:stSnd>
        <p:snd r:embed="rId1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MW Deal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l: (02) 1300 732 58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vate Sell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l: (02) 1300 986 78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ding Po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l: (02) 1300 439 28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90720" y="457200"/>
            <a:ext cx="73911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0000">
                        <a:alpha val="50196"/>
                      </a:srgbClr>
                    </a:gs>
                    <a:gs pos="100000">
                      <a:srgbClr val="000514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gency FB"/>
              </a:rPr>
              <a:t>Where To Buy Car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0000">
                      <a:alpha val="50196"/>
                    </a:srgbClr>
                  </a:gs>
                  <a:gs pos="100000">
                    <a:srgbClr val="000514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gency FB"/>
              <a:ea typeface="Agency FB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8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6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0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8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0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5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7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2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4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9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1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6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8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3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5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Prodigy"/>
          <p:cNvPicPr/>
          <p:nvPr/>
        </p:nvPicPr>
        <p:blipFill>
          <a:blip r:embed="rId1"/>
          <a:stretch/>
        </p:blipFill>
        <p:spPr>
          <a:xfrm>
            <a:off x="990720" y="1905120"/>
            <a:ext cx="708660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7" dur="5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600200" y="1219320"/>
            <a:ext cx="59436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RODIG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66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ir conditioning STD- Auto/Climate Dual front zone air cond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D Push button heater control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D Sunroof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/PAK- Electric sunroof operatio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/PAK- See-thru sunroof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/PAK Power window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D- Front and rear power window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D- Driver's vanity mirror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D- Illuminated drivers vanity mirror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/PAK -Passenger's vanity mirror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ice $39,00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304920"/>
            <a:ext cx="7315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oudy Stout"/>
              </a:rPr>
              <a:t>Features</a:t>
            </a:r>
            <a:endParaRPr b="1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oudy Stout"/>
              <a:ea typeface="Goudy Stout"/>
            </a:endParaRPr>
          </a:p>
        </p:txBody>
      </p:sp>
    </p:spTree>
  </p:cSld>
  <p:transition spd="slow">
    <p:wheel spokes="2"/>
    <p:sndAc>
      <p:stSnd>
        <p:snd r:embed="rId3" name="camera.wav"/>
      </p:stSnd>
    </p:sndAc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2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0" dur="5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5" dur="5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5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5" dur="5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0" dur="5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5" dur="5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0" dur="5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5" dur="5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0" dur="5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5" dur="50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0" dur="50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5" dur="5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0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5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yota deal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l: (02) 1300 253 45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vate sellers                                                 Call: (02) 1300 485 95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 rot="336000">
            <a:off x="685800" y="456840"/>
            <a:ext cx="73915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064000"/>
                </a:gradFill>
                <a:latin typeface="Impact"/>
              </a:rPr>
              <a:t>Where To Buy C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064000"/>
              </a:gradFill>
              <a:latin typeface="Impact"/>
              <a:ea typeface="Impact"/>
            </a:endParaRPr>
          </a:p>
        </p:txBody>
      </p:sp>
    </p:spTree>
  </p:cSld>
  <p:transition spd="slow">
    <p:cover dir="u"/>
    <p:sndAc>
      <p:stSnd>
        <p:snd r:embed="rId1" name="breeze.wav"/>
      </p:stSnd>
    </p:sndAc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6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3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62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6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76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2864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9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62120" y="2057400"/>
            <a:ext cx="77724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ahoma"/>
              </a:rPr>
              <a:t>CHRYSLER 300 C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i-lock brakes (AB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de door anti-intrusion bea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iver's airb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nt passenger's airba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nt side (thorax) airba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 Door SEDAN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 speed AUTOMATIC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ce $53,99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 rot="21261000">
            <a:off x="2057400" y="228600"/>
            <a:ext cx="51814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igh Tower Text"/>
              </a:rPr>
              <a:t>Feature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2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2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2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2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2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2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6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2" dur="3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7" dur="3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2" dur="3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7" dur="3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2" dur="3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7" dur="3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02" dur="3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07" dur="3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rysler Deal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one: (02) 9828 8969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x: (02) 9828 897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TER WARREN AUTOMOTIV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one: (02) 9828 8969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x: (02) 9828 8977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057400" y="-228600"/>
            <a:ext cx="5181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omic"/>
              </a:rPr>
              <a:t>Where To Buy Ca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omic"/>
              <a:ea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0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5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0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5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44" dur="3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49" dur="3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54" dur="3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59" dur="3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2209680"/>
            <a:ext cx="70866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Papyrus"/>
              </a:rPr>
              <a:t>BY Daanial Rehman</a:t>
            </a:r>
            <a:endParaRPr b="0" lang="en-US" sz="9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Papyrus"/>
              <a:ea typeface="Papyru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Papyrus"/>
              </a:rPr>
              <a:t>Year 9</a:t>
            </a:r>
            <a:endParaRPr b="0" lang="en-US" sz="9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Papyrus"/>
              <a:ea typeface="Papyr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7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71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553080" cy="3733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  <p:sndAc>
      <p:stSnd>
        <p:snd r:embed="rId2" name="push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09480" y="1981080"/>
            <a:ext cx="66294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0514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Wide Latin"/>
              </a:rPr>
              <a:t>VOLVO S40</a:t>
            </a:r>
            <a:endParaRPr b="1" lang="en-US" sz="44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0514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Wide Latin"/>
              <a:ea typeface="Wide Lat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Imprint MT Shadow"/>
              </a:rPr>
              <a:t>2008 Volvo S40 Version 2.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Ultra Bold"/>
              </a:rPr>
              <a:t>Payment if improved ca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2225520"/>
            <a:ext cx="56386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Base Pr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$25,7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Sty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$7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O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N/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Accesso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N/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Custom Build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$3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Deliv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$74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ill Sans Ul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Total(MSRP)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ill Sans Ultra Bold"/>
              </a:rPr>
              <a:t>$27,470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50"/>
                            </p:stCondLst>
                            <p:childTnLst>
                              <p:par>
                                <p:cTn id="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550"/>
                            </p:stCondLst>
                            <p:childTnLst>
                              <p:par>
                                <p:cTn id="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150"/>
                            </p:stCondLst>
                            <p:childTnLst>
                              <p:par>
                                <p:cTn id="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1350"/>
                            </p:stCondLst>
                            <p:childTnLst>
                              <p:par>
                                <p:cTn id="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4550"/>
                            </p:stCondLst>
                            <p:childTnLst>
                              <p:par>
                                <p:cTn id="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7150"/>
                            </p:stCondLst>
                            <p:childTnLst>
                              <p:par>
                                <p:cTn id="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350"/>
                            </p:stCondLst>
                            <p:childTnLst>
                              <p:par>
                                <p:cTn id="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2750"/>
                            </p:stCondLst>
                            <p:childTnLst>
                              <p:par>
                                <p:cTn id="1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6750"/>
                            </p:stCondLst>
                            <p:childTnLst>
                              <p:par>
                                <p:cTn id="1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9150"/>
                            </p:stCondLst>
                            <p:childTnLst>
                              <p:par>
                                <p:cTn id="1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3150"/>
                            </p:stCondLst>
                            <p:childTnLst>
                              <p:par>
                                <p:cTn id="1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750"/>
                            </p:stCondLst>
                            <p:childTnLst>
                              <p:par>
                                <p:cTn id="1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9150"/>
                            </p:stCondLst>
                            <p:childTnLst>
                              <p:par>
                                <p:cTn id="1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1750"/>
                            </p:stCondLst>
                            <p:childTnLst>
                              <p:par>
                                <p:cTn id="1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750"/>
                            </p:stCondLst>
                            <p:childTnLst>
                              <p:par>
                                <p:cTn id="1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78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4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500"/>
                            </p:stCondLst>
                            <p:childTnLst>
                              <p:par>
                                <p:cTn id="189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0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6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1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2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7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8" dur="2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3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4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219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0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9500"/>
                            </p:stCondLst>
                            <p:childTnLst>
                              <p:par>
                                <p:cTn id="225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6" dur="2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1500"/>
                            </p:stCondLst>
                            <p:childTnLst>
                              <p:par>
                                <p:cTn id="231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2" dur="20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" dur="20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3500"/>
                            </p:stCondLst>
                            <p:childTnLst>
                              <p:par>
                                <p:cTn id="237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8" dur="20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0" dur="20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500"/>
                            </p:stCondLst>
                            <p:childTnLst>
                              <p:par>
                                <p:cTn id="243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4" dur="20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" dur="20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7500"/>
                            </p:stCondLst>
                            <p:childTnLst>
                              <p:par>
                                <p:cTn id="249" nodeType="after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0" dur="2000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" dur="2000"/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5e5ff"/>
                </a:solidFill>
                <a:latin typeface="comic"/>
              </a:rPr>
              <a:t>Features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Ultra Bold"/>
              </a:rPr>
              <a:t>Front Wheel Dri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Ultra Bold"/>
              </a:rPr>
              <a:t>Driver and Front Passenger Supplemental Restraint System - Dual Threshold Airbag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Ultra Bold"/>
              </a:rPr>
              <a:t>Side Impact Air Bags for Driver and Front Passeng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Ultra Bold"/>
              </a:rPr>
              <a:t>Whiplash Protection Seating System (WHIP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Ultra 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ill Sans Ultra Bold"/>
              </a:rPr>
              <a:t>Inflatable Side Curtains (IC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Ultra Bold"/>
              </a:rPr>
              <a:t>Anti-Lock Brake System (AB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Ultra Bold"/>
              </a:rPr>
              <a:t>Sirius Satellite Radio, Includes 6-Month Subscrip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Ultra Bold"/>
              </a:rPr>
              <a:t>Price $ 41,00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 spokes="3"/>
    <p:sndAc>
      <p:stSnd>
        <p:snd r:embed="rId1" name="explode.wav"/>
      </p:stSnd>
    </p:sndAc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3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3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000"/>
                            </p:stCondLst>
                            <p:childTnLst>
                              <p:par>
                                <p:cTn id="2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3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3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3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2000"/>
                            </p:stCondLst>
                            <p:childTnLst>
                              <p:par>
                                <p:cTn id="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3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3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0"/>
                            </p:stCondLst>
                            <p:childTnLst>
                              <p:par>
                                <p:cTn id="305" nodeType="after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9500"/>
                            </p:stCondLst>
                            <p:childTnLst>
                              <p:par>
                                <p:cTn id="310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11" dur="3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2500"/>
                            </p:stCondLst>
                            <p:childTnLst>
                              <p:par>
                                <p:cTn id="317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3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5500"/>
                            </p:stCondLst>
                            <p:childTnLst>
                              <p:par>
                                <p:cTn id="324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3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8500"/>
                            </p:stCondLst>
                            <p:childTnLst>
                              <p:par>
                                <p:cTn id="331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3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1500"/>
                            </p:stCondLst>
                            <p:childTnLst>
                              <p:par>
                                <p:cTn id="338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3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4500"/>
                            </p:stCondLst>
                            <p:childTnLst>
                              <p:par>
                                <p:cTn id="345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" dur="3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7500"/>
                            </p:stCondLst>
                            <p:childTnLst>
                              <p:par>
                                <p:cTn id="352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3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500"/>
                            </p:stCondLst>
                            <p:childTnLst>
                              <p:par>
                                <p:cTn id="359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3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295280" y="533520"/>
            <a:ext cx="60962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empus Sans ITC"/>
              </a:rPr>
              <a:t>Were To Buy Car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vate Fleet new Volvo sell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l: (02) 1300 303 18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lvo deal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l: (02) 1300 129 35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ding pos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ll: (02) 1300 267 26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 spokes="1"/>
    <p:sndAc>
      <p:stSnd>
        <p:snd r:embed="rId1" name="breeze.wav"/>
      </p:stSnd>
    </p:sndAc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4" dur="5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7" dur="5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5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5" dur="5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0" dur="5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3" dur="5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8" dur="5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1" dur="5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6" dur="5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9" dur="5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5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7" dur="5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2526795_11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4686480" cy="4171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  <p:sndAc>
      <p:stSnd>
        <p:snd r:embed="rId2" name="wind.wav"/>
      </p:stSnd>
    </p:sndAc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09480" y="2133720"/>
            <a:ext cx="79250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4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BMW 1161 E87</a:t>
            </a:r>
            <a:endParaRPr b="0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3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-3688200"/>
            <a:ext cx="70088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77920"/>
            <a:ext cx="91501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Release Year: 2007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Price: $41,100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Make: BMW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Badge: 118i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Model: 1 SERIES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Series: E87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Body: Hatchback  4 doors  5 seats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Transmission: 6 speed  Automatic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Fuel: 53 Fuel tank capacity (litres)  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Engine: Four cylinders, in-line, chain-driven DOHC, four valves per cylinder, variable valve timing and lift.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Garamond"/>
              </a:rPr>
              <a:t>Power &amp; Torque: 100kW @ 5750rpm KW  180Nm @ 3250rp         Warranty: 3 yr, unlimited km, 3 yr on paint, 12 yr on perforation corrosion,3 yr, 24 hr roadside assistance. </a:t>
            </a:r>
            <a:r>
              <a:rPr b="0" lang="en-A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 rot="222000">
            <a:off x="914040" y="0"/>
            <a:ext cx="6934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EATURES AND PRIC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3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3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6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06:46:47Z</dcterms:created>
  <dc:creator>Daanial rehman 1</dc:creator>
  <dc:description/>
  <dc:language>en-US</dc:language>
  <cp:lastModifiedBy>Lavinia Sullivan</cp:lastModifiedBy>
  <dcterms:modified xsi:type="dcterms:W3CDTF">2008-03-14T03:46:42Z</dcterms:modified>
  <cp:revision>8</cp:revision>
  <dc:subject/>
  <dc:title>Comparison Of       Cars</dc:title>
</cp:coreProperties>
</file>